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epreneurship- BIS 3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5F62-CBF0-4AD0-B367-91CB24A4B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DD08-FA65-4824-827B-1E4ADD3894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trepreneurship- BIS 3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24140-78A3-4748-B5AD-E223D08D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8DA1-0BEE-41A6-A936-89DE967B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8011-DBDF-498D-80B5-8452E9D9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EDE68-0B70-4DFF-A795-8466DAF7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DEBA-7994-4238-A806-AA0ECF5D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B894-DA47-424B-9A00-1F265589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6FC9-90C5-4632-86B4-CAE45B97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9EF1-A5CA-4298-919D-6F3BE96D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CD6A-2C5C-4C08-B586-96E19AA1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6C08-3A94-47D3-A9C1-65107FEC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10DC-6272-4291-AC5E-91CA8983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757A-2FEA-4ECF-8377-A2657032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6FC0-F903-4815-AF3D-7397572B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91E8-A7C4-4EAF-A26E-0FDE2C5B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4680-3358-4EA3-A3D6-03640B32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291C-29D9-4230-B20E-842C2F1A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FAC3-0B4F-4F17-949E-0F0688EF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BE20-C0C9-4948-8AE6-938B66F9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9430-464F-46C6-B811-A52F9B3D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56AF-0C3C-43A9-884C-105FC3AE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E059-29C5-49E4-8152-A3DA78DC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3F42-99B4-45B6-BA07-05D7AD94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C6C9-83EC-4EB2-981B-00185249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413B6-5166-4C06-87E6-3BF27F59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trepreneurship- BIS 3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52C4-6F48-4630-8E1A-E0ECDD11C58C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8225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c0704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trepreneurship- BIS 3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CD17-8DF4-44E6-B0B9-72107D0866F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5640" y="1828800"/>
            <a:ext cx="6705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AND BEVERAGE MANAG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s, Ratios and Contrac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6AC8-A02B-44F1-BC4F-A0163016DC72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MELIOR logo"/>
          <p:cNvPicPr/>
          <p:nvPr/>
        </p:nvPicPr>
        <p:blipFill>
          <a:blip r:embed="rId1"/>
          <a:stretch/>
        </p:blipFill>
        <p:spPr>
          <a:xfrm>
            <a:off x="7236000" y="374760"/>
            <a:ext cx="1755720" cy="622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2795760" y="5072040"/>
            <a:ext cx="6348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2f05"/>
                </a:solidFill>
                <a:latin typeface="Arial"/>
              </a:rPr>
              <a:t>Strategic Alliance between</a:t>
            </a:r>
            <a:br>
              <a:rPr sz="4000"/>
            </a:br>
            <a:r>
              <a:rPr b="0" lang="en-US" sz="4000" spc="-1" strike="noStrike">
                <a:solidFill>
                  <a:srgbClr val="a62f05"/>
                </a:solidFill>
                <a:latin typeface="Arial"/>
              </a:rPr>
              <a:t>Hotels and Restaur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5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ur key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are the hotel customers’ F&amp;B needs and expecta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ich F&amp;B concept best aligns with the positioning of the hot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converting the restaurant to a brand name restaurant improve the hotel’s bottom l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turning to a brand name F&amp;B operation give the hotel a competitive advant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http://www.fotosearch.com/bthumb/UNC/UNC241/u13891886.jpg"/>
          <p:cNvPicPr/>
          <p:nvPr/>
        </p:nvPicPr>
        <p:blipFill>
          <a:blip r:embed="rId1"/>
          <a:stretch/>
        </p:blipFill>
        <p:spPr>
          <a:xfrm>
            <a:off x="6400800" y="4813200"/>
            <a:ext cx="27432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2f05"/>
                </a:solidFill>
                <a:latin typeface="Arial"/>
              </a:rPr>
              <a:t>Strategic Alliance between</a:t>
            </a:r>
            <a:br>
              <a:rPr sz="4000"/>
            </a:br>
            <a:r>
              <a:rPr b="0" lang="en-US" sz="4000" spc="-1" strike="noStrike">
                <a:solidFill>
                  <a:srgbClr val="a62f05"/>
                </a:solidFill>
                <a:latin typeface="Arial"/>
              </a:rPr>
              <a:t>Hotels and Restaur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5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asons for alliance between brand name hotel and restaura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e financial benef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 guests with greater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mprove the hotel’s overall 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engthen the hotel’s competitive advan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e operational advan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2" descr="http://www.fotosearch.com/bthumb/UNC/UNC241/u13891886.jpg"/>
          <p:cNvPicPr/>
          <p:nvPr/>
        </p:nvPicPr>
        <p:blipFill>
          <a:blip r:embed="rId1"/>
          <a:stretch/>
        </p:blipFill>
        <p:spPr>
          <a:xfrm>
            <a:off x="6400800" y="4813200"/>
            <a:ext cx="27432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2f05"/>
                </a:solidFill>
                <a:latin typeface="Arial"/>
              </a:rPr>
              <a:t>Strategic Alliance between</a:t>
            </a:r>
            <a:br>
              <a:rPr sz="4000"/>
            </a:br>
            <a:r>
              <a:rPr b="0" lang="en-US" sz="4000" spc="-1" strike="noStrike">
                <a:solidFill>
                  <a:srgbClr val="a62f05"/>
                </a:solidFill>
                <a:latin typeface="Arial"/>
              </a:rPr>
              <a:t>Hotels and Restaur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6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ypes of restaura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F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t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ho 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sual /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 Fre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zza H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http://www.fotosearch.com/bthumb/UNC/UNC241/u13891886.jpg"/>
          <p:cNvPicPr/>
          <p:nvPr/>
        </p:nvPicPr>
        <p:blipFill>
          <a:blip r:embed="rId1"/>
          <a:stretch/>
        </p:blipFill>
        <p:spPr>
          <a:xfrm>
            <a:off x="6400800" y="4813200"/>
            <a:ext cx="2743200" cy="2044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4648320" y="1447920"/>
            <a:ext cx="4114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249"/>
              </a:spcBef>
              <a:buClr>
                <a:srgbClr val="ff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1303"/>
                </a:solidFill>
                <a:latin typeface="Arial"/>
                <a:ea typeface="Arial"/>
              </a:rPr>
              <a:t>Up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1303"/>
                </a:solidFill>
                <a:latin typeface="Arial"/>
                <a:ea typeface="Arial"/>
              </a:rPr>
              <a:t>Yee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1303"/>
                </a:solidFill>
                <a:latin typeface="Arial"/>
                <a:ea typeface="Arial"/>
              </a:rPr>
              <a:t>Au Lac Do Braz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1303"/>
                </a:solidFill>
                <a:latin typeface="Arial"/>
                <a:ea typeface="Arial"/>
              </a:rPr>
              <a:t>Li Bai @ Shera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249"/>
              </a:spcBef>
              <a:buClr>
                <a:srgbClr val="ff99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1303"/>
                </a:solidFill>
                <a:latin typeface="Arial"/>
                <a:ea typeface="Arial"/>
              </a:rPr>
              <a:t>T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1303"/>
                </a:solidFill>
                <a:latin typeface="Arial"/>
                <a:ea typeface="Arial"/>
              </a:rPr>
              <a:t>Hard Rock Caf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Restaurant Franchi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5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Helps to reposition hot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ay increase revenues, occupancy, prof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ranchiser is continually assessing and improving men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ranchiser is knowledgeable about restaurant busi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ranchise fe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High initial invest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quires a certain volume to warrant using a franchise br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Restaurant Franchi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actors to consi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sired hotel position and customer perception you want to create for your hote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ssess the revenue and costs, profitability of having a franchised brand restau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elect a restaurant company that has the same corporate culture and shares the same operational go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sider the menu offered, restaurant décor, training support and management support from franchiser, and ability to handle room serv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712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4 types of relationships between hotel and F&amp;B out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nally developed restaurant br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ranchised restaurant br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aight 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agement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http://www.fotosearch.com/bthumb/UNC/UNC111/u10329855.jpg"/>
          <p:cNvPicPr/>
          <p:nvPr/>
        </p:nvPicPr>
        <p:blipFill>
          <a:blip r:embed="rId1"/>
          <a:stretch/>
        </p:blipFill>
        <p:spPr>
          <a:xfrm>
            <a:off x="6248520" y="3909960"/>
            <a:ext cx="2895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3712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f7300"/>
                </a:solidFill>
                <a:latin typeface="Arial"/>
                <a:ea typeface="Arial"/>
              </a:rPr>
              <a:t>Internally developed restaurant br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otel develops own restaurant with little outside help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restaurant is a unit belonging to the hotel controlled by F&amp;B direc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dvantage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Hotel has total control over all the opera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No need to pay any fees to outside parties, hotel keeps all prof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543800" y="5257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3712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el may not have the expertise to successfully run a restaurant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veloping the restaurant into a famous brand takes a longer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371240"/>
            <a:ext cx="8183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7300"/>
                </a:solidFill>
                <a:latin typeface="Arial"/>
                <a:ea typeface="Arial"/>
              </a:rPr>
              <a:t>Franchised restaurant br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tel buys a franchise from a famous restaurant franchis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ranchisee (hotel) operates the restaurant according to the guidelines laid down by franchisor includ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éc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d prepa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712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hisor has the expertise and know-h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hisor can provide training to the personnel in the restau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ranchisor’s brand is already a recognized brand with a ready customer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 franchise f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el has less control in the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Operational Inter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-262080"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 &amp; B division and other units are mutually depend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2080" indent="-262080"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re should be direct interaction betwee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ront desk and F &amp; B - specific guest requ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ales department and banquet unit – banquet and conventions book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F &amp; B and Front Office – announce new menu or special activ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Guest relations unit and F &amp; B – feedback on utilization rate of F &amp; B outle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62080"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2" descr="http://www.fotosearch.com/bthumb/ARP/ARP116/Contintl.jpg"/>
          <p:cNvPicPr/>
          <p:nvPr/>
        </p:nvPicPr>
        <p:blipFill>
          <a:blip r:embed="rId1"/>
          <a:stretch/>
        </p:blipFill>
        <p:spPr>
          <a:xfrm>
            <a:off x="7524720" y="5429160"/>
            <a:ext cx="1619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371240"/>
            <a:ext cx="8183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f7300"/>
                </a:solidFill>
                <a:latin typeface="Arial"/>
                <a:ea typeface="Arial"/>
              </a:rPr>
              <a:t>Straight le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otel rents out the space inside the hotel to an outside restaurant compan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otel only collects rent; it has no say in the operations of the restau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dvantag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Guaranteed revenue from rent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isadvantag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Little control over the oper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taurant may be a mismatch with th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hotel’s positio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7300"/>
                </a:solidFill>
                <a:latin typeface="Arial"/>
                <a:ea typeface="Arial"/>
              </a:rPr>
              <a:t>Management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tel lets an outside company manage its restaur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tel pays the company a management fe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agement company is responsible for recruitment, selection and training, as well as all day-to-day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rsonnel may or may not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der the payroll of hot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Contract Relationsh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3712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agement company has the expertise and know-h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agement fees and possibly profi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el has little control in the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http://www.fotosearch.com/bthumb/CSP/CSP424/k4249092.jpg"/>
          <p:cNvPicPr/>
          <p:nvPr/>
        </p:nvPicPr>
        <p:blipFill>
          <a:blip r:embed="rId1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Hotel Ca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371240"/>
            <a:ext cx="8183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fers to providing food and beverage service outside of a restaurant / bar / café sett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ay be done in a meeting room / ballroom / courtyard / garden or other loc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F&amp;B division is in charge of not only food preparation but also decorations, such as table settings and light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 huge revenue generator for the hot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igh visibility and can create an im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or the hot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http://www.fotosearch.com/bthumb/CSP/CSP469/k4699961.jpg"/>
          <p:cNvPicPr/>
          <p:nvPr/>
        </p:nvPicPr>
        <p:blipFill>
          <a:blip r:embed="rId1"/>
          <a:stretch/>
        </p:blipFill>
        <p:spPr>
          <a:xfrm>
            <a:off x="7086600" y="4359240"/>
            <a:ext cx="20574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Hotel Catering - Personn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rector of catering (reports to director of F&amp;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sees all catering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rks closely with Director of Sales and 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tering managers (reports to director of cate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intain client contacts, plan menus, themes, room set up, décor, negotiate with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http://www.fotosearch.com/bthumb/CSP/CSP469/k4699961.jpg"/>
          <p:cNvPicPr/>
          <p:nvPr/>
        </p:nvPicPr>
        <p:blipFill>
          <a:blip r:embed="rId1"/>
          <a:stretch/>
        </p:blipFill>
        <p:spPr>
          <a:xfrm>
            <a:off x="7086600" y="4648320"/>
            <a:ext cx="2057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Hotel Catering - Personn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Banquet Manager (reports to director of cateri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upervises maitre d’, room captains, servers, bartende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cts on director of catering’s requ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upervises table settings and déc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cheduler (in a big catering operation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lans the rooms, reception area and time sche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Keeps records to avoid overbooking o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ouble book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" descr="http://www.fotosearch.com/bthumb/CSP/CSP469/k4699961.jpg"/>
          <p:cNvPicPr/>
          <p:nvPr/>
        </p:nvPicPr>
        <p:blipFill>
          <a:blip r:embed="rId1"/>
          <a:stretch/>
        </p:blipFill>
        <p:spPr>
          <a:xfrm>
            <a:off x="7086600" y="4876920"/>
            <a:ext cx="2057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Hotel Catering - Personn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Maitre d’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upervises all service personnel including captains, servers &amp; all aspects of guest ser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p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anages a section or a specific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upervises the servers in the section or ro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er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erves either food or bever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Barten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erves alcoholic drin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http://www.fotosearch.com/bthumb/CSP/CSP469/k4699961.jpg"/>
          <p:cNvPicPr/>
          <p:nvPr/>
        </p:nvPicPr>
        <p:blipFill>
          <a:blip r:embed="rId1"/>
          <a:stretch/>
        </p:blipFill>
        <p:spPr>
          <a:xfrm>
            <a:off x="7086600" y="4952880"/>
            <a:ext cx="2057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Hotel Catering - Personn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eward / Hous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t up the equipment, tables , chairs, glasswar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ockery and cutl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gineering department perso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 necessary utilities such as air-conditioning, electrical wiring, audio visual equipment, ban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2" descr="http://www.fotosearch.com/bthumb/CSP/CSP469/k4699961.jpg"/>
          <p:cNvPicPr/>
          <p:nvPr/>
        </p:nvPicPr>
        <p:blipFill>
          <a:blip r:embed="rId1"/>
          <a:stretch/>
        </p:blipFill>
        <p:spPr>
          <a:xfrm>
            <a:off x="7086600" y="4952880"/>
            <a:ext cx="2057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Operational Inter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5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 &amp; B manager must know who the customers are, what they like and how many customers to expect with the input from other departments and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 hotel employee should be trained to refer / recommend F &amp; B services to gues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http://www.fotosearch.com/bthumb/ARP/ARP116/Contintl.jpg"/>
          <p:cNvPicPr/>
          <p:nvPr/>
        </p:nvPicPr>
        <p:blipFill>
          <a:blip r:embed="rId1"/>
          <a:stretch/>
        </p:blipFill>
        <p:spPr>
          <a:xfrm>
            <a:off x="7524720" y="5429160"/>
            <a:ext cx="1619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Operating Ratios - import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Food and Beverage Sales per Available Roo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otal food and beverage sal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= $? per roo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. of rooms availab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Food and Beverage Occupan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umber of cover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=  ? tur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umber of sea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Sales per Available Se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otal food and beverage sal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=  $ per se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no. of seats availab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4572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verage Chec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otal food and beverage sal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= $A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no. of cov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atio of Beverage Sales to Food S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verage sal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x 100% = ? 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ood S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ood Cost Percent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st of foo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x 100% =  ? 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ood s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Labor Cost Percent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&amp;B Labor Cos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x 100% =  ? 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&amp;B sa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Director of Food and Bever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Objectiv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et and exceed guests’ needs and expectations by ensuring proper service standards, providing quality food and beverages, managing all aspects of opera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ovide all guests with the highest quality F&amp;B experience by working as a team with all F&amp;B outlets, ensuring prompt, polite and professional services, resulting in increasing employee morale, decreasing turnover rates and lowering service tim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http://www.fotosearch.com/bthumb/CSP/CSP432/k4326421.jpg"/>
          <p:cNvPicPr/>
          <p:nvPr/>
        </p:nvPicPr>
        <p:blipFill>
          <a:blip r:embed="rId1"/>
          <a:stretch/>
        </p:blipFill>
        <p:spPr>
          <a:xfrm>
            <a:off x="7524720" y="5372280"/>
            <a:ext cx="16192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Director of Food and Bever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ek profitability in the F&amp;B department by decreasing all costs, maximizing sales in all outlets, achieving budget and profit guidelines, meeting and / or exceeding long / short range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http://www.fotosearch.com/bthumb/CSP/CSP432/k4326421.jpg"/>
          <p:cNvPicPr/>
          <p:nvPr/>
        </p:nvPicPr>
        <p:blipFill>
          <a:blip r:embed="rId1"/>
          <a:stretch/>
        </p:blipFill>
        <p:spPr>
          <a:xfrm>
            <a:off x="7524720" y="5372280"/>
            <a:ext cx="16192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Director of Food and Bever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5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751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pecific Operations Functio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ovide the highest quality in food, beverage and service in all outle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t least one daily walk through of all F&amp;B ar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aintain existing programs and develop new progra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aily talks with all staffs and manag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aintain high quality image through effective housekeeping and sani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aintain physical security for all outlets and invento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Know local competition and industry tre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hange menus based on seasonality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and product availa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lnSpc>
                <a:spcPct val="80000"/>
              </a:lnSpc>
              <a:spcBef>
                <a:spcPts val="649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http://www.fotosearch.com/bthumb/CSP/CSP432/k4326421.jpg"/>
          <p:cNvPicPr/>
          <p:nvPr/>
        </p:nvPicPr>
        <p:blipFill>
          <a:blip r:embed="rId1"/>
          <a:stretch/>
        </p:blipFill>
        <p:spPr>
          <a:xfrm>
            <a:off x="7524720" y="5372280"/>
            <a:ext cx="16192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2f05"/>
                </a:solidFill>
                <a:latin typeface="Arial"/>
              </a:rPr>
              <a:t>Director of Food and Bever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5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822504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ic Management Fun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rects and coordinates all activities of personnel and departmental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ily contacts with staff and performance re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keting of each F&amp;B out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hieve budgeted sales and maximum profi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intain fair wage and salary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64960">
              <a:spcBef>
                <a:spcPts val="700"/>
              </a:spcBef>
              <a:buClr>
                <a:srgbClr val="9e2a0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http://www.fotosearch.com/bthumb/CSP/CSP432/k4326421.jpg"/>
          <p:cNvPicPr/>
          <p:nvPr/>
        </p:nvPicPr>
        <p:blipFill>
          <a:blip r:embed="rId1"/>
          <a:stretch/>
        </p:blipFill>
        <p:spPr>
          <a:xfrm>
            <a:off x="7524720" y="5372280"/>
            <a:ext cx="16192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8:17:07Z</dcterms:created>
  <dc:creator>Craig Brogan</dc:creator>
  <dc:description/>
  <dc:language>en-US</dc:language>
  <cp:lastModifiedBy>robert</cp:lastModifiedBy>
  <dcterms:modified xsi:type="dcterms:W3CDTF">2011-04-13T07:38:13Z</dcterms:modified>
  <cp:revision>106</cp:revision>
  <dc:subject/>
  <dc:title>Presentation Module 2</dc:title>
</cp:coreProperties>
</file>